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D68-D0EA-4E03-8E94-1C0C2944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235-7FBA-4A88-AE14-45891110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A7E-9276-4F68-9D6B-20028446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680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184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680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184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B36-2DF0-401C-86AA-C15FDCA4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E970-B7CD-4502-9492-7EB0DBF1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E69C-6598-4E14-8ABE-5E7DC701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CCE4-2C09-4327-809B-104D536C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6681-544B-49BD-9E88-52BCEE5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313B-5364-4338-9ABA-1F1F31C9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4674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3C5B-7E16-432F-BBB1-4073E7F0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C9F6-6FC4-4423-9021-CB19C79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6EC-AB75-47C3-A367-7B303E36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D25-B588-4EE8-AF27-156E8DE9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F020-DB54-4C55-A866-16F97C0E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891C-A803-41D0-9856-D8833494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8206-3D33-4343-981E-9095C56D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680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1184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680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1184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763-5AC0-42D5-B4E1-435BA956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643-FC38-41B8-96ED-DF8DD3D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B99-7F12-493F-9994-C53591CA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EC3-148C-45B4-8171-D53A4EBC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4674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238-40CD-496A-B3B6-7C762CAF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7AD-B05B-4BB2-8CE7-CE431581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204-5AB4-40CE-9698-998E4A0E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023-1D0C-42F7-9FC6-B2CC32C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4021-7672-4243-A391-048ED91B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192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192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90AC-DF56-4F3B-963D-683CA3817C6C}" type="slidenum">
              <a:rPr b="0" lang="en-US" sz="1400" spc="-1" strike="noStrike">
                <a:solidFill>
                  <a:srgbClr val="6192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0" y="1676160"/>
            <a:ext cx="3276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hapter 1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0" y="41144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Introduction to Environmental Science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ass Discuss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The Gaia Theory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Proposes that organisms interact with their inorganic surroundings to form self regulating, complex systems that maintain conditions on earth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What do you think?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  <p:pic>
        <p:nvPicPr>
          <p:cNvPr id="112" name="Picture 5" descr="earths_bipsphere_4"/>
          <p:cNvPicPr/>
          <p:nvPr/>
        </p:nvPicPr>
        <p:blipFill>
          <a:blip r:embed="rId1"/>
          <a:stretch/>
        </p:blipFill>
        <p:spPr>
          <a:xfrm>
            <a:off x="4572000" y="1928880"/>
            <a:ext cx="36576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arth…a closed system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only thing that leaves or enters the Earth’s atmosphere is solar energ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What does this mean for earth’s Resources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Population Growth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Agriculture and the Industrial Revolution allowed human populations to grow much faster than the environment was accustomed to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Development of modern medicine and sanitation increases population. Why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Population continued…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Most scientists believe that the human population will double in the 21</a:t>
            </a:r>
            <a:r>
              <a:rPr b="0" lang="en-US" sz="3200" spc="-1" strike="noStrike" baseline="30000">
                <a:solidFill>
                  <a:srgbClr val="619200"/>
                </a:solidFill>
                <a:latin typeface="Century Gothic"/>
              </a:rPr>
              <a:t>st</a:t>
            </a: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 centur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But, they also think that the population will stabilize around 2100, why would one think this way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nvironmental stresses will continue with the population growth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nvironmental Problem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Resource Deple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Natural resource: any naturally occurring material used by human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Renewable resource- resource that can be replaced rapidly by natural processe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Water, air, trees, crop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Non-renewable resource- renewed at a much slower rate than it is consume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Rocks, minerals, fossil fuel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Depleted resource- a large fraction of the resource has been used up and is not being renewed quickly enough for consumption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assroom Activit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Look at Table 2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Pick 3 items in the classroom and make a similar table for each item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Observe your objects closely and list the resources that comprise them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lassify each resource as renewable or non-renewable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Environmental Problems continued…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Pollu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Undesired change in air, water, or soil that adversely affects the health, survival, or activities of living organism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ee figure 13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Biodegradable pollutants- can be broken down by natural processe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Human sewage, paper on the side of the road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Nondegradable pollutants- can not be broken down by natural processe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Mercury, lead, some plastic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Environmental Problems continued…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Loss of Biodiversit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Number and variety of species that live in an area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Mass extinction- one occurred 250 million years ago during the Permian period, 95% of all organisms were destroyed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Why bother with worrying about organisms going extinct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Section Review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How did the Industrial Revolution effect the environment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xplain how a problem can be local, regional, or global? Give an example of each.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Why is it important for environmental scientists to be familiar with many different sciences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c5800"/>
                </a:solidFill>
                <a:latin typeface="Century Gothic"/>
              </a:rPr>
              <a:t>The Tragedy of the Common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The main difficulty in solving environmental problems is the conflict of short-term interests and the future welfare of society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omeone has to take control of a resource or it will be overused and eventually deplete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Humans have a natural tendency to work together and overcome the short-term interests and plan ahead for the future society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Where in today’s environment can you see this?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5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What is Environmental Science?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e study of how humans interact with the environment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  <p:pic>
        <p:nvPicPr>
          <p:cNvPr id="87" name="Picture 5" descr="footprint"/>
          <p:cNvPicPr/>
          <p:nvPr/>
        </p:nvPicPr>
        <p:blipFill>
          <a:blip r:embed="rId1"/>
          <a:stretch/>
        </p:blipFill>
        <p:spPr>
          <a:xfrm>
            <a:off x="4692600" y="1600200"/>
            <a:ext cx="3414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Economics and the Environment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Law of Supply and Deman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The greater the demand for a limited item, the greater value that item ha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Where can you see this problem today?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Costs and Benefit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Cost-benefit analysis- shows the results of an action versus the cost of the action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Biased based on source of the analysi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Risk Assessment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In order to make a good judgment, one must weigh the risks of that decision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The public must understand that an educated opinion is usually reliable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9200"/>
                </a:solidFill>
                <a:latin typeface="Century Gothic"/>
              </a:rPr>
              <a:t>Public ranked nuclear power as the riskiest source of energy, but it is actually as safe as peddling a bicycle</a:t>
            </a:r>
            <a:endParaRPr b="0" lang="en-US" sz="1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Population and Consumpt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When land areas become overpopulated, we tend to destroy other organisms habitats to make room for ourselves. 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s population increases, food supply, education, natural resources, and job creation slowly decreases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Of the 4.5 billion people in the world’s countries, only about half currently have enough food, safe drinking water, and proper sanitation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onsumption Trend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Developed countries use approximately 75% of the resources available, while they only make up about 20% of the world’s popula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ake a look at table 3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Why do you think people in developed countries live longer than those in lower developed countries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cological Footprint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Shows the productive area of Earth needed to support one person in a particular country. 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is is an estimation of the crops, grazing, forest products, and housing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It also includes ocean area needed for supplying seafood and the forest area needed to supply air to absorb air pollution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Homework Activity</a:t>
            </a:r>
            <a:br>
              <a:rPr sz="3600"/>
            </a:b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Chose </a:t>
            </a:r>
            <a:r>
              <a:rPr b="0" lang="en-US" sz="3600" spc="-1" strike="noStrike" u="sng">
                <a:solidFill>
                  <a:srgbClr val="2c5800"/>
                </a:solidFill>
                <a:uFillTx/>
                <a:latin typeface="Century Gothic"/>
              </a:rPr>
              <a:t>ONE</a:t>
            </a: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 of these: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Look at food packaging at home. How much of the food is in plastic containers, paper, metal, etc. Give me a ratio and explain how much of the food products will result in waste products.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Make a list of five things that you can do to decrease your ecological footprint.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earch the internet for an ecological footprint calculator. Find at least three and calculate your ecological footprint with each. Why is there a difference with each calculator?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Scenario Discuss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 major company has moved into the area and has been caught dumping poisonous chemical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How do you suppose we solve this problem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e company has stated that it will simply leave and move to a location with more lenient regulation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Now what do you do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Group Activit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5 of you will be the city counci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2 of you will be presenting a discussion on an environmental topic. 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rest of you will participate in a townhall discussion on the topic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city council will then vote on the measure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5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Listening to Environmental Issues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Be prepared to listen to multiple viewpoints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Investigate the source of the information you hear. 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  <p:pic>
        <p:nvPicPr>
          <p:cNvPr id="164" name="Picture 5" descr="5_35_479_14_06"/>
          <p:cNvPicPr/>
          <p:nvPr/>
        </p:nvPicPr>
        <p:blipFill>
          <a:blip r:embed="rId1"/>
          <a:stretch/>
        </p:blipFill>
        <p:spPr>
          <a:xfrm>
            <a:off x="762120" y="248436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Sustainabilit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condition in which human needs are met in such a manner that indefinite survival is promoted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ustainability is obtainable…we just need everyone to participate.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Three components of Env. Sci.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onservation and protection of natural resources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nvironmental education and communication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nvironmental research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colog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study of how living things interact with each other and with the non-living environmen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cology is the major basis of environmental science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Other sciences include: Biology, Geology, Botany, Zoology, Paleontology, Chemistr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Be Familiar with table 1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What can you do?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You do not need to be a college grad to be an environmental scientis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Often times, non-scientists are the first to recognize environmental problems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Our World…way back then…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Hunter-Gatherers- for most of history, humans obtained food by collecting plants and scavenging for foo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ome cultures still follow this strategy- see figure 5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Even hunter gatherers have effect on the environment: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Burn landscape to clear off tree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Killing animals prevents some plants from reproducing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Mass killing of animals could have led to extinction of megafauna (giant bison, mastodon, saber-tooth cats)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ultivating Agriculture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griculture- practice of growing, breeding, and caring for living things used as food or economic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First record of agriculture is seen 10000 years ago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nd area of land can support 500 times more people through agriculture than through hunting and gathering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Not all is well with agriculture: See figure 7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The Industrial Revolut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In the 1700s, the onset of technology drastically changed our environmen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ood sources were much easily obtained and at must quicker speeds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As technology increased, pollution and habitat loss also increased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The Plastic Era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Beginning in the 1900s, artificial products began replacing raw animal product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is modern convenience is beginning to show its disadvantage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Much of Environmental Science is trying to solve and prevent the problems brought on by the Industrial Revolu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3:57Z</dcterms:created>
  <dc:creator>Adam's Homepage</dc:creator>
  <dc:description/>
  <cp:keywords/>
  <dc:language>en-US</dc:language>
  <cp:lastModifiedBy>Adam Goosby</cp:lastModifiedBy>
  <dcterms:modified xsi:type="dcterms:W3CDTF">2013-07-29T20:38:56Z</dcterms:modified>
  <cp:revision>7</cp:revision>
  <dc:subject/>
  <dc:title>Uni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81033</vt:lpwstr>
  </property>
</Properties>
</file>